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3C6F-6739-4D49-8D39-F3315EB7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DD2-E046-49F9-84A7-D59519E1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7D5-9EA9-4665-96E7-2B88F2CE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EBB-07B3-4B3C-B136-E932EFA7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163D-E943-40A1-BE04-19CF2E68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01D0-8C6E-4F14-AE5E-55DD13C6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D891-E4D8-4F3A-8189-D6104FB3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95B3-BB69-4A82-8258-B9B0B01A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F584-1156-4BF5-AEFA-FB42260B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C888-CAD1-4EE0-90C2-BC06ED30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9DCE-7137-4277-A0DF-09603EBF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9A89-251E-45E8-B3A2-6639EB11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5A54-76F2-4E27-A978-E93E54ED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B0D6-7EC3-49EF-A0B5-82F571B9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6442-E5E9-41F0-A72E-190EE4BD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3516-9EF7-46FF-9525-0CC19EE6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BDA8-C992-486C-9C30-B4116B76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321E-B1A5-4216-A0C5-571A74AB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65D-596D-444E-A8C2-34092AB9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FA36-E564-41CF-95E6-3CCD0094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8337-417B-49F0-BFB8-7E76B65D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54C-0BD6-4C14-A00C-AD181D9F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8C5-9B01-41B3-9F6C-452E8499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08B-E304-4D05-A5D5-48C254E5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0B2C-54DB-4C36-913C-AC010802A1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3561-478A-40F0-970C-DB4288F98B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68421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ФИЗИЧЕСКОЙ КУЛЬТУРЫ  И СПОРТА КРАСНОДАРСКОГО КРАЯ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ГБУ КК «РЕГИОНАЛЬНЫЙ ЦЕНТР СПОРТИВНОЙ ПОДГОТОВКИ ПО ЛЕГКОЙ АТЛЕТИКЕ»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емпионат ЮФО и С-КФО (мужчины и женщины), первенство ЮФО и С-КФО (молодежь мужчины и женщины до 23 лет, юниоры и юниорки до 20 лет, юноши и девушки до 18 лет) (длинные мет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4-15.01.2017 г.                                                                              г. Краснод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емпионат ЮФО и С-КФО (мужчины и женщины), первенство ЮФО и С-КФО (молодежь мужчины и женщины до 23 лет, юниоры и юниорки до 20 лет, юноши и девушки до 18 лет) (длинные метания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719360"/>
          <a:ext cx="7615080" cy="4118040"/>
        </p:xfrm>
        <a:graphic>
          <a:graphicData uri="http://schemas.openxmlformats.org/drawingml/2006/table">
            <a:tbl>
              <a:tblPr/>
              <a:tblGrid>
                <a:gridCol w="3565440"/>
                <a:gridCol w="1710000"/>
                <a:gridCol w="658800"/>
                <a:gridCol w="1680840"/>
              </a:tblGrid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. 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Ф.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В. Смоле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д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А. Лев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мо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С. Коробей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коп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А. Бурма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А. Рыженк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2</cp:lastModifiedBy>
  <cp:lastPrinted>2017-01-14T10:43:08Z</cp:lastPrinted>
  <dcterms:modified xsi:type="dcterms:W3CDTF">2017-01-14T13:59:50Z</dcterms:modified>
  <cp:revision>54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